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123-DB68-4617-86FE-D3D7DE4B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D50-7742-4676-993F-0CB7BDEF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4418-971A-4BAC-ABEA-4A7BF28D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798D-8185-4812-B0AC-482664CB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6630-706F-495E-80C4-99156DCB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D400-CB7B-42E8-B794-91697D50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83F5-E3E0-4933-840A-B6C457C9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361B-DD4E-46C4-9E22-E2C4998E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49FC-3C77-46B4-A9CC-080BFD19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9739-4805-4B43-B455-D1602FF8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A6EE-2814-4F8B-80BC-AB80A15D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59AB-3EA0-4F0C-967F-6A5857E1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E00C-C818-46BA-A417-58CA892F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482B-8A54-4FFA-A888-03CB3946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D321-FA50-454E-B9D1-7C10BA0E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D5AA-FEFC-4C6A-867E-0EA7FAA9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AD75-E605-442F-9F2B-DF8DEBEC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A2E-7D27-4C1E-B3E4-CB51E307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684-7D87-46EE-A21A-F5D277D4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F7C-7853-4426-A99F-D796B950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8523-E83D-4092-9218-9738F579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134-80A9-4F59-9E1A-0F6DD455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F8C-54F0-4DD3-90A8-95DA0C5E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9BA0-0E4B-40C9-A414-74694A4A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2503-BD2D-44B7-B801-EFC983E38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4A4D-2CE9-4722-9011-59A10C1BC3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Realizace záměru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z peněz stavby obchvat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Rozloha cca 17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40 cm zeminy – 170 000m2 x 0,4 m= 68 000 m3  (možný prodej)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o hloubky 2,5 – 4,5 m jsou písčité jíly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3,5 x 170 000m2=600 000 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1,2kg/m3 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emnozrnné štěrky 3,5 – 6,5m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Průměr 5m x 100 000m2= 500 000m3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Měrná hmotnost 2kg/m3 x 500 000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1mil. t jemnozrnného štěrku</a:t>
            </a:r>
            <a:br>
              <a:rPr sz="1200"/>
            </a:br>
            <a:br>
              <a:rPr sz="1200"/>
            </a:br>
            <a:r>
              <a:rPr b="0" lang="en-US" sz="1400" spc="-1" strike="noStrike" u="sng">
                <a:solidFill>
                  <a:srgbClr val="ffffb7"/>
                </a:solidFill>
                <a:uFillTx/>
                <a:latin typeface="Arial Black"/>
              </a:rPr>
              <a:t>Prodej štěrku </a:t>
            </a:r>
            <a:br>
              <a:rPr sz="14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tavební firma, která by vrstvy jílu a štěrku těžila by byla schopna vytěžit ročně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300 tis. M3 štěrk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ca 200 tis. M3 jílu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z celkové plochy cca 10 ha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Dále je firma schopna ročně prodat cca 150-300 tis. M3 štěrku.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Jílové vrstvy by se použily na protipovodňový va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Současné ceny za tunu štěrku: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60 Kč – netříděný materiál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90 Kč –tříděný materiál</a:t>
            </a:r>
            <a:br>
              <a:rPr sz="1200"/>
            </a:br>
            <a:br>
              <a:rPr sz="12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Jezero:</a:t>
            </a:r>
            <a:br>
              <a:rPr sz="1600"/>
            </a:b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Štěrky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 - 1mil. t jemnozrnného štěrku x 6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60 mil Kč</a:t>
            </a:r>
            <a:br>
              <a:rPr sz="1600"/>
            </a:b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1mil. t jemnozrnného štěrku x 90 Kč= </a:t>
            </a:r>
            <a:r>
              <a:rPr b="0" lang="en-US" sz="1600" spc="-1" strike="noStrike" u="sng">
                <a:solidFill>
                  <a:srgbClr val="ffffb7"/>
                </a:solidFill>
                <a:uFillTx/>
                <a:latin typeface="Arial Black"/>
              </a:rPr>
              <a:t>90 mil Kč</a:t>
            </a:r>
            <a:br>
              <a:rPr sz="16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Cena těžby ?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Písčité jíly</a:t>
            </a: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– 600 000 m3= </a:t>
            </a:r>
            <a:r>
              <a:rPr b="0" lang="en-US" sz="1200" spc="-1" strike="noStrike" u="sng">
                <a:solidFill>
                  <a:srgbClr val="ffffb7"/>
                </a:solidFill>
                <a:uFillTx/>
                <a:latin typeface="Arial Black"/>
              </a:rPr>
              <a:t>720 t písčitých jílů 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– možnost uplatnit v protipovodňovém valu, nebo využití v rámci sendvičových</a:t>
            </a:r>
            <a:br>
              <a:rPr sz="1200"/>
            </a:br>
            <a:r>
              <a:rPr b="0" lang="en-US" sz="1200" spc="-1" strike="noStrike">
                <a:solidFill>
                  <a:srgbClr val="ffffb7"/>
                </a:solidFill>
                <a:latin typeface="Arial Black"/>
              </a:rPr>
              <a:t> násypů (střídání vrstev jílu s vhodnou zeminou)</a:t>
            </a: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Realizace</a:t>
            </a:r>
            <a:br>
              <a:rPr sz="20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1:</a:t>
            </a:r>
            <a:br>
              <a:rPr sz="16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yklostezka obousměrná  s chodníkem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cca 1,5 km x 3m x 1500 kč/m2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750.000,-Kč.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arkoviště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(min u jezu) bet. dlažba cca 2200m2 x 1600,-Kč  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.520.000,-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Příjezdová cest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800Kč/m2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 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00m=1.080.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Zeleň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př. 30 450 m2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6.0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Úprava břehů jezera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navážka př. 15000 m3 =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4.800.000,-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Osvětlení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1 ks á 10.000,-Kč X cca 150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.500.000 Kč 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avičky 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10.000,-Kč 30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300 000 Kč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O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dpadkové koše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á 9.000,-Kč 15 Ks=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135 000 Kč</a:t>
            </a: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Informační – navigační systém</a:t>
            </a: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 – cca </a:t>
            </a: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200 000 Kč</a:t>
            </a:r>
            <a:br>
              <a:rPr sz="1400"/>
            </a:br>
            <a:br>
              <a:rPr sz="14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Celkem : </a:t>
            </a:r>
            <a:br>
              <a:rPr sz="1400"/>
            </a:br>
            <a:r>
              <a:rPr b="0" lang="cs-CZ" sz="2000" spc="-1" strike="noStrike" u="sng">
                <a:solidFill>
                  <a:srgbClr val="ffffb7"/>
                </a:solidFill>
                <a:uFillTx/>
                <a:latin typeface="Arial Black"/>
              </a:rPr>
              <a:t>24.285.000 – 30.000.000 Kč,-</a:t>
            </a:r>
            <a:br>
              <a:rPr sz="2000"/>
            </a:b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Etapa č.2:</a:t>
            </a:r>
            <a:br>
              <a:rPr sz="1600"/>
            </a:b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latové chodníky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lávky přes Očovský járek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sportoviště  - víceúčelové hřiště 37x37m cca 4.000.000,-Kč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eřejné WC – cca 4.000.000,-Kč</a:t>
            </a:r>
            <a:br>
              <a:rPr sz="1400"/>
            </a:b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b7"/>
                </a:solidFill>
                <a:latin typeface="Arial Black"/>
              </a:rPr>
              <a:t>Vyjádření odborů.</a:t>
            </a:r>
            <a:br>
              <a:rPr sz="2400"/>
            </a:br>
            <a:br>
              <a:rPr sz="18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A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Doporučuji další prověření záměru zadáním vypracování komplexního biologického průzkumu a  zadáním geologického průzkumu a provedením minimálně 2-4 vrtů v zamýšlené lokalitě. Bez těchto průzkumů nejsme schopni vypočítat předběžnou návratnost a realizovatelnost záměru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ORM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K výkupu nemám námitek, dle stávajících podkladů není tento záměr stanoven jako priorita. Priority budou dohodnuty při realizaci strategického plánu. Doporučuji tento záměr posoudit současně s celkovou strategií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IaD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ako záměr pro rozvoj města to není špatná myšlenka, ale záměr nutno vyřešit nejdříve z hlediska vlastnických vztahů, tam však není priorita.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MPO:</a:t>
            </a:r>
            <a:br>
              <a:rPr sz="14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Je nutné zvážit výši finančních prostředků pro vykupování pozemků – záměr je vhodný. 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ŽPaZ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Vzhledem k obrovské nákladnosti majetkových vztahů a dalším okolnostem nedoporučuji. Proto doporučuji zvážit i finanční náklady na zjišťovací proces.</a:t>
            </a:r>
            <a:br>
              <a:rPr sz="1400"/>
            </a:br>
            <a:r>
              <a:rPr b="0" lang="cs-CZ" sz="1800" spc="-1" strike="noStrike">
                <a:solidFill>
                  <a:srgbClr val="ffffb7"/>
                </a:solidFill>
                <a:latin typeface="Arial Black"/>
              </a:rPr>
              <a:t>DSA:</a:t>
            </a:r>
            <a:br>
              <a:rPr sz="18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utno prověřit, zda může být lázeňský park umístěn v suchém poldru. U sportovišť je nutné zajistit parkovací místa a zázemí šaten. </a:t>
            </a:r>
            <a:br>
              <a:rPr sz="1400"/>
            </a:br>
            <a:r>
              <a:rPr b="0" lang="cs-CZ" sz="1600" spc="-1" strike="noStrike">
                <a:solidFill>
                  <a:srgbClr val="ffffb7"/>
                </a:solidFill>
                <a:latin typeface="Arial Black"/>
              </a:rPr>
              <a:t>OKH</a:t>
            </a:r>
            <a:br>
              <a:rPr sz="1600"/>
            </a:br>
            <a:r>
              <a:rPr b="0" lang="cs-CZ" sz="1400" spc="-1" strike="noStrike">
                <a:solidFill>
                  <a:srgbClr val="ffffb7"/>
                </a:solidFill>
                <a:latin typeface="Arial Black"/>
              </a:rPr>
              <a:t>Nepovažuji za prioritu města, doporučuji řešit až na to budou finanční prostředky.</a:t>
            </a:r>
            <a:endParaRPr b="1" lang="en-US" sz="1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zemní plán města Hodonín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20108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v areálu    Lázní Hodonín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rh: Ing. arch. R. Kubrická, architekt mě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3194280" cy="4392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1628640"/>
            <a:ext cx="31942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58920" y="6354720"/>
            <a:ext cx="67816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ecký sním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128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26920" y="98100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kalita Očovských luk z hlediska územního plánu města Hodoní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43640" cy="3456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5137200"/>
            <a:ext cx="856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Dle závazné části územního plánu je v současné době funkční využití tohoto území charakterizováno jako přírodní krajinná zóna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řírodní park). Územím prochází panelová komunikace, která od sídliště vymezuje rozvojové plochy pro veřejnou zeleň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Zp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arky, sloužící pro odpočinek obyvatel) a sport a rekreaci (směrná část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– plochy pro sportovní zařízení). Blíže k veslařskému klubu je navržena plocha pro sportovní zařízení s možností koupání – přírodní koupaliště (ozn. </a:t>
            </a: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„Osk“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). Všechny výše uvedené rozvojové plochy jsou vymezeny jako veřejně prospěšné stavb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b7"/>
                </a:solidFill>
                <a:latin typeface="Arial Black"/>
              </a:rPr>
              <a:t>Architektonicko – urbanistická studie pokračování lázeňského parku na Očovských loukách v Hodoníně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Lokalita Očovských luk z hlediska „NATURA 2000“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71640" y="5734080"/>
            <a:ext cx="7500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643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ffffb7"/>
                </a:solidFill>
                <a:uFillTx/>
                <a:latin typeface="Arial Black"/>
              </a:rPr>
              <a:t>Ekonomická analýza záměru prodloužení lázeňského parku do prostoru Očovských luk.</a:t>
            </a:r>
            <a:br>
              <a:rPr sz="1400"/>
            </a:br>
            <a:br>
              <a:rPr sz="14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Výkupy pozemků</a:t>
            </a: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2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y a sportoviště 50 ha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na cca 10 kč/m2 = </a:t>
            </a: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7 mil. Kč</a:t>
            </a:r>
            <a:br>
              <a:rPr sz="1600"/>
            </a:b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Geologický průzkum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růzkumy + studium – cca 13 3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vytýčení vrtů, geologické práce, laboratorní práce – 66 600 Kč +19% DP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Celkem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95 000 Kč</a:t>
            </a:r>
            <a:br>
              <a:rPr sz="12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Zpracování PD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 biologický průzkum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70 000 tis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(Stanovení zásad diferenciace území z hlediska jeho přírodních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odnot)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Rozptylová studie (parkoviště)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Zpracování oznámení pro posouzení vlivu na ŽP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20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Hydrogeologický průzkum ?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Studie posouzení tech. stavu a likvidace sond cca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3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geometrické zaměření území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ůzkumy a rozbory – cca 0.5 -0.7mil.  Kč,-</a:t>
            </a:r>
            <a:br>
              <a:rPr sz="1600"/>
            </a:br>
            <a:br>
              <a:rPr sz="16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Ú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cca 0,5 mil. Kč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+ cenový odhad nákladů stavby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PD pro ST.Ř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.- </a:t>
            </a: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1,5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                            Prováděcí projekt ?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Projekční práce cca 2-4 mil. Kč,-</a:t>
            </a:r>
            <a:br>
              <a:rPr sz="1600"/>
            </a:br>
            <a:br>
              <a:rPr sz="1600"/>
            </a:br>
            <a:r>
              <a:rPr b="0" lang="cs-CZ" sz="1200" spc="-1" strike="noStrike" u="sng">
                <a:solidFill>
                  <a:srgbClr val="ffffb7"/>
                </a:solidFill>
                <a:uFillTx/>
                <a:latin typeface="Arial Black"/>
              </a:rPr>
              <a:t>Vynětí ze ZPF</a:t>
            </a: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 – pokud je to v kvartelu Moravy - 1Ha cca 540 000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40% se po zaplacení vrátí městu Hodonín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Jezero - 20 ha x 540 000 Kč = 10,8 mil.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Park – 50 ha x 540 000 Kč = 27 mil Kč</a:t>
            </a:r>
            <a:br>
              <a:rPr sz="1200"/>
            </a:br>
            <a:r>
              <a:rPr b="0" lang="cs-CZ" sz="1200" spc="-1" strike="noStrike">
                <a:solidFill>
                  <a:srgbClr val="ffffb7"/>
                </a:solidFill>
                <a:latin typeface="Arial Black"/>
              </a:rPr>
              <a:t>Vráceno městu 40% 15,12 mil. Kč</a:t>
            </a:r>
            <a:br>
              <a:rPr sz="1200"/>
            </a:br>
            <a:r>
              <a:rPr b="0" lang="cs-CZ" sz="1600" spc="-1" strike="noStrike" u="sng">
                <a:solidFill>
                  <a:srgbClr val="ffffb7"/>
                </a:solidFill>
                <a:uFillTx/>
                <a:latin typeface="Arial Black"/>
              </a:rPr>
              <a:t>Celkem za vynětí ZPF 22,7 mil. Kč</a:t>
            </a:r>
            <a:br>
              <a:rPr sz="1600"/>
            </a:b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3:43:23Z</dcterms:created>
  <dc:creator>Kubrická</dc:creator>
  <dc:description/>
  <dc:language>en-US</dc:language>
  <cp:lastModifiedBy>Kubrická</cp:lastModifiedBy>
  <dcterms:modified xsi:type="dcterms:W3CDTF">2005-05-02T07:59:30Z</dcterms:modified>
  <cp:revision>17</cp:revision>
  <dc:subject/>
  <dc:title>Snímek 1</dc:title>
</cp:coreProperties>
</file>